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856F-203D-4E85-8209-7928E0FEF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CD95-7819-4506-A178-A128A666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113B-1453-43EB-BDEB-177484AE7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16E7-3E12-4C12-8B1C-5E44F565D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E710-876F-413E-B87B-AA4FCC2FE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4688-E2A4-4A09-904A-2689ED3F4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710-7541-4680-B190-B58E4A17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713-C260-4754-B467-927E7DDE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2F1-1634-4C95-A752-2DEE0663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A45-7FFE-41C8-A5FC-49A24918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17DE-0CF2-4844-AA51-83F89741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2115-828D-4535-9E34-266811C5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7350-EE63-4871-B70F-FE20BD7F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42C8-9932-4650-B867-FF521014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FEF9-8668-45C4-86D3-C1B937CC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CBF3-1F07-4CA4-A945-1FE1A533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14D7-17D4-44F3-B3F8-05013A34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820-5818-4DEF-B6B1-D82A052D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3C7C-299F-4220-A747-C916983C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FA52-5439-4572-9143-480845B1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37A9-3F2B-44EF-9E5C-2C63103D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2B4F-9A0E-41D2-B4DF-5E070C4D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0ED4-2458-410E-BEBD-6DC2FBA8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DF1B-1337-4A75-B45A-5719B6BB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3D4E0-BB62-4644-98C0-81E725C7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EFB60-AE89-438E-9047-51AE1D75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1D9A2-9D72-40F6-B7A0-8220CFC5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82C30-0CE5-490F-A686-FE663569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7D3-5BFA-4A27-8069-80EDE76D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24380-9ED3-45AC-93B0-B41FAC00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13F62-D954-49A2-89CC-E5413028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62C6-315D-4D9F-B518-EC964E61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082E7-B55E-4029-9FD0-70F9F58C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105D4-ACE9-4DE3-B61F-1FD98D30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532F-A703-49F7-A8BF-1185EF15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20500-7AD4-42B1-AF0F-8C8AACC7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55914-6BA3-4257-BB03-7E71D432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57225-4DB2-4D1F-A146-95C7B483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B7E4A-8D2B-4796-A523-5C62A1F9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84C-54A6-448A-A3A8-EEF90254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B26EF-ECF3-473B-A3B6-3E3121E0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65004-B1A4-4BF4-8120-84546DE6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DB2ED-CFF6-4AD9-8CC7-1785752E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D9394-D412-469D-B636-5460FC56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947CB-9E67-49AC-9351-8E4909F7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3B995-D8F1-40CD-A6E2-E3E53CBC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D3366-D537-43BA-90AD-D9DBAE7F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CE55-80F0-4A9B-BEBC-D634F039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A6814-564A-47DE-A447-9D3208ED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484-F190-4F96-8AB0-682196EF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669-37AB-4985-B09D-00978A57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1243-A622-4FA6-B782-AD386A40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CAF-4E37-4343-8531-B96E6DD9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149-5C1C-47DB-9976-1208006C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D3F1-5C08-4681-94D4-8B9B250BD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BCB9-0C66-482D-98C7-083DCAC49E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2832-D54B-4E17-89B3-76CF1E72F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t.org/encyclomedia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hyperlink" Target="http://www.lmooreketresources.wikispaces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286000"/>
            <a:ext cx="5880240" cy="37893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ump Start Project Based Learning With KET Instructional Resources!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3" name="Picture 14" descr=""/>
          <p:cNvPicPr/>
          <p:nvPr/>
        </p:nvPicPr>
        <p:blipFill>
          <a:blip r:embed="rId3"/>
          <a:stretch/>
        </p:blipFill>
        <p:spPr>
          <a:xfrm>
            <a:off x="6970680" y="1066680"/>
            <a:ext cx="1019160" cy="1246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"/>
          <p:cNvPicPr/>
          <p:nvPr/>
        </p:nvPicPr>
        <p:blipFill>
          <a:blip r:embed="rId4"/>
          <a:stretch/>
        </p:blipFill>
        <p:spPr>
          <a:xfrm>
            <a:off x="1204920" y="1066680"/>
            <a:ext cx="1101600" cy="1243080"/>
          </a:xfrm>
          <a:prstGeom prst="rect">
            <a:avLst/>
          </a:prstGeom>
          <a:ln w="0">
            <a:noFill/>
          </a:ln>
        </p:spPr>
      </p:pic>
      <p:sp>
        <p:nvSpPr>
          <p:cNvPr id="175" name="Freeform 5"/>
          <p:cNvSpPr/>
          <p:nvPr/>
        </p:nvSpPr>
        <p:spPr>
          <a:xfrm>
            <a:off x="0" y="1139760"/>
            <a:ext cx="1380960" cy="2567160"/>
          </a:xfrm>
          <a:custGeom>
            <a:avLst/>
            <a:gdLst/>
            <a:ahLst/>
            <a:rect l="l" t="t" r="r" b="b"/>
            <a:pathLst>
              <a:path w="1380392" h="2567477">
                <a:moveTo>
                  <a:pt x="1380392" y="140677"/>
                </a:moveTo>
                <a:cubicBezTo>
                  <a:pt x="1365738" y="134815"/>
                  <a:pt x="1349195" y="132375"/>
                  <a:pt x="1336431" y="123092"/>
                </a:cubicBezTo>
                <a:cubicBezTo>
                  <a:pt x="1316319" y="108465"/>
                  <a:pt x="1304369" y="84132"/>
                  <a:pt x="1283677" y="70338"/>
                </a:cubicBezTo>
                <a:cubicBezTo>
                  <a:pt x="1246394" y="45484"/>
                  <a:pt x="1266751" y="57480"/>
                  <a:pt x="1222131" y="35169"/>
                </a:cubicBezTo>
                <a:cubicBezTo>
                  <a:pt x="1216269" y="26377"/>
                  <a:pt x="1214477" y="12403"/>
                  <a:pt x="1204546" y="8792"/>
                </a:cubicBezTo>
                <a:cubicBezTo>
                  <a:pt x="1179604" y="-278"/>
                  <a:pt x="1151954" y="0"/>
                  <a:pt x="1125415" y="0"/>
                </a:cubicBezTo>
                <a:cubicBezTo>
                  <a:pt x="1049159" y="0"/>
                  <a:pt x="973015" y="5861"/>
                  <a:pt x="896815" y="8792"/>
                </a:cubicBezTo>
                <a:cubicBezTo>
                  <a:pt x="843660" y="22080"/>
                  <a:pt x="873115" y="13761"/>
                  <a:pt x="808892" y="35169"/>
                </a:cubicBezTo>
                <a:cubicBezTo>
                  <a:pt x="808887" y="35171"/>
                  <a:pt x="756144" y="52750"/>
                  <a:pt x="756139" y="52754"/>
                </a:cubicBezTo>
                <a:cubicBezTo>
                  <a:pt x="747347" y="58615"/>
                  <a:pt x="737660" y="63318"/>
                  <a:pt x="729762" y="70338"/>
                </a:cubicBezTo>
                <a:cubicBezTo>
                  <a:pt x="711175" y="86860"/>
                  <a:pt x="697700" y="109298"/>
                  <a:pt x="677008" y="123092"/>
                </a:cubicBezTo>
                <a:cubicBezTo>
                  <a:pt x="659423" y="134815"/>
                  <a:pt x="639198" y="143317"/>
                  <a:pt x="624254" y="158261"/>
                </a:cubicBezTo>
                <a:cubicBezTo>
                  <a:pt x="600276" y="182239"/>
                  <a:pt x="592786" y="192216"/>
                  <a:pt x="562708" y="211015"/>
                </a:cubicBezTo>
                <a:cubicBezTo>
                  <a:pt x="551594" y="217962"/>
                  <a:pt x="539262" y="222738"/>
                  <a:pt x="527539" y="228600"/>
                </a:cubicBezTo>
                <a:cubicBezTo>
                  <a:pt x="508955" y="256475"/>
                  <a:pt x="487312" y="292676"/>
                  <a:pt x="457200" y="307731"/>
                </a:cubicBezTo>
                <a:lnTo>
                  <a:pt x="422031" y="325315"/>
                </a:lnTo>
                <a:cubicBezTo>
                  <a:pt x="416169" y="334107"/>
                  <a:pt x="411918" y="344220"/>
                  <a:pt x="404446" y="351692"/>
                </a:cubicBezTo>
                <a:cubicBezTo>
                  <a:pt x="369276" y="386862"/>
                  <a:pt x="383931" y="348761"/>
                  <a:pt x="360485" y="395654"/>
                </a:cubicBezTo>
                <a:cubicBezTo>
                  <a:pt x="356340" y="403944"/>
                  <a:pt x="355837" y="413741"/>
                  <a:pt x="351692" y="422031"/>
                </a:cubicBezTo>
                <a:cubicBezTo>
                  <a:pt x="346966" y="431482"/>
                  <a:pt x="338400" y="438751"/>
                  <a:pt x="334108" y="448407"/>
                </a:cubicBezTo>
                <a:cubicBezTo>
                  <a:pt x="311519" y="499232"/>
                  <a:pt x="317578" y="515588"/>
                  <a:pt x="298939" y="571500"/>
                </a:cubicBezTo>
                <a:lnTo>
                  <a:pt x="290146" y="597877"/>
                </a:lnTo>
                <a:cubicBezTo>
                  <a:pt x="287215" y="630115"/>
                  <a:pt x="285932" y="662546"/>
                  <a:pt x="281354" y="694592"/>
                </a:cubicBezTo>
                <a:cubicBezTo>
                  <a:pt x="280043" y="703767"/>
                  <a:pt x="274380" y="711881"/>
                  <a:pt x="272562" y="720969"/>
                </a:cubicBezTo>
                <a:cubicBezTo>
                  <a:pt x="268498" y="741290"/>
                  <a:pt x="266700" y="762000"/>
                  <a:pt x="263769" y="782515"/>
                </a:cubicBezTo>
                <a:cubicBezTo>
                  <a:pt x="266700" y="893884"/>
                  <a:pt x="267134" y="1005347"/>
                  <a:pt x="272562" y="1116623"/>
                </a:cubicBezTo>
                <a:cubicBezTo>
                  <a:pt x="273014" y="1125880"/>
                  <a:pt x="279536" y="1133912"/>
                  <a:pt x="281354" y="1143000"/>
                </a:cubicBezTo>
                <a:cubicBezTo>
                  <a:pt x="288346" y="1177962"/>
                  <a:pt x="291947" y="1213545"/>
                  <a:pt x="298939" y="1248507"/>
                </a:cubicBezTo>
                <a:cubicBezTo>
                  <a:pt x="301870" y="1263161"/>
                  <a:pt x="305274" y="1277728"/>
                  <a:pt x="307731" y="1292469"/>
                </a:cubicBezTo>
                <a:cubicBezTo>
                  <a:pt x="311138" y="1312911"/>
                  <a:pt x="312459" y="1333694"/>
                  <a:pt x="316523" y="1354015"/>
                </a:cubicBezTo>
                <a:cubicBezTo>
                  <a:pt x="320836" y="1375579"/>
                  <a:pt x="333366" y="1396494"/>
                  <a:pt x="342900" y="1415561"/>
                </a:cubicBezTo>
                <a:cubicBezTo>
                  <a:pt x="345831" y="1430215"/>
                  <a:pt x="347760" y="1445105"/>
                  <a:pt x="351692" y="1459523"/>
                </a:cubicBezTo>
                <a:cubicBezTo>
                  <a:pt x="356569" y="1477406"/>
                  <a:pt x="364782" y="1494295"/>
                  <a:pt x="369277" y="1512277"/>
                </a:cubicBezTo>
                <a:cubicBezTo>
                  <a:pt x="396762" y="1622220"/>
                  <a:pt x="361634" y="1485529"/>
                  <a:pt x="386862" y="1573823"/>
                </a:cubicBezTo>
                <a:cubicBezTo>
                  <a:pt x="413446" y="1666865"/>
                  <a:pt x="371436" y="1536338"/>
                  <a:pt x="413239" y="1661746"/>
                </a:cubicBezTo>
                <a:cubicBezTo>
                  <a:pt x="416170" y="1670538"/>
                  <a:pt x="420213" y="1679035"/>
                  <a:pt x="422031" y="1688123"/>
                </a:cubicBezTo>
                <a:lnTo>
                  <a:pt x="439615" y="1776046"/>
                </a:lnTo>
                <a:cubicBezTo>
                  <a:pt x="442546" y="1808284"/>
                  <a:pt x="444130" y="1840674"/>
                  <a:pt x="448408" y="1872761"/>
                </a:cubicBezTo>
                <a:cubicBezTo>
                  <a:pt x="450005" y="1884739"/>
                  <a:pt x="457200" y="1895847"/>
                  <a:pt x="457200" y="1907931"/>
                </a:cubicBezTo>
                <a:cubicBezTo>
                  <a:pt x="457200" y="2016409"/>
                  <a:pt x="453825" y="2124903"/>
                  <a:pt x="448408" y="2233246"/>
                </a:cubicBezTo>
                <a:cubicBezTo>
                  <a:pt x="447945" y="2242502"/>
                  <a:pt x="441863" y="2250632"/>
                  <a:pt x="439615" y="2259623"/>
                </a:cubicBezTo>
                <a:cubicBezTo>
                  <a:pt x="435990" y="2274121"/>
                  <a:pt x="437007" y="2289980"/>
                  <a:pt x="430823" y="2303584"/>
                </a:cubicBezTo>
                <a:cubicBezTo>
                  <a:pt x="422078" y="2322824"/>
                  <a:pt x="395654" y="2356338"/>
                  <a:pt x="395654" y="2356338"/>
                </a:cubicBezTo>
                <a:cubicBezTo>
                  <a:pt x="387506" y="2380782"/>
                  <a:pt x="387458" y="2388638"/>
                  <a:pt x="369277" y="2409092"/>
                </a:cubicBezTo>
                <a:cubicBezTo>
                  <a:pt x="352755" y="2427679"/>
                  <a:pt x="337215" y="2448051"/>
                  <a:pt x="316523" y="2461846"/>
                </a:cubicBezTo>
                <a:cubicBezTo>
                  <a:pt x="290032" y="2479507"/>
                  <a:pt x="286213" y="2483629"/>
                  <a:pt x="254977" y="2497015"/>
                </a:cubicBezTo>
                <a:cubicBezTo>
                  <a:pt x="232002" y="2506861"/>
                  <a:pt x="218209" y="2507167"/>
                  <a:pt x="193431" y="2514600"/>
                </a:cubicBezTo>
                <a:cubicBezTo>
                  <a:pt x="175677" y="2519926"/>
                  <a:pt x="158262" y="2526322"/>
                  <a:pt x="140677" y="2532184"/>
                </a:cubicBezTo>
                <a:cubicBezTo>
                  <a:pt x="131885" y="2535115"/>
                  <a:pt x="123291" y="2538729"/>
                  <a:pt x="114300" y="2540977"/>
                </a:cubicBezTo>
                <a:cubicBezTo>
                  <a:pt x="90854" y="2546838"/>
                  <a:pt x="66889" y="2550918"/>
                  <a:pt x="43962" y="2558561"/>
                </a:cubicBezTo>
                <a:cubicBezTo>
                  <a:pt x="12024" y="2569208"/>
                  <a:pt x="26853" y="2567354"/>
                  <a:pt x="0" y="2567354"/>
                </a:cubicBezTo>
              </a:path>
            </a:pathLst>
          </a:custGeom>
          <a:noFill/>
          <a:ln w="104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6" name="Freeform 22"/>
          <p:cNvSpPr/>
          <p:nvPr/>
        </p:nvSpPr>
        <p:spPr>
          <a:xfrm flipH="1">
            <a:off x="7848720" y="1166760"/>
            <a:ext cx="1295280" cy="2567160"/>
          </a:xfrm>
          <a:custGeom>
            <a:avLst/>
            <a:gdLst/>
            <a:ahLst/>
            <a:rect l="l" t="t" r="r" b="b"/>
            <a:pathLst>
              <a:path w="1380392" h="2567477">
                <a:moveTo>
                  <a:pt x="1380392" y="140677"/>
                </a:moveTo>
                <a:cubicBezTo>
                  <a:pt x="1365738" y="134815"/>
                  <a:pt x="1349195" y="132375"/>
                  <a:pt x="1336431" y="123092"/>
                </a:cubicBezTo>
                <a:cubicBezTo>
                  <a:pt x="1316319" y="108465"/>
                  <a:pt x="1304369" y="84132"/>
                  <a:pt x="1283677" y="70338"/>
                </a:cubicBezTo>
                <a:cubicBezTo>
                  <a:pt x="1246394" y="45484"/>
                  <a:pt x="1266751" y="57480"/>
                  <a:pt x="1222131" y="35169"/>
                </a:cubicBezTo>
                <a:cubicBezTo>
                  <a:pt x="1216269" y="26377"/>
                  <a:pt x="1214477" y="12403"/>
                  <a:pt x="1204546" y="8792"/>
                </a:cubicBezTo>
                <a:cubicBezTo>
                  <a:pt x="1179604" y="-278"/>
                  <a:pt x="1151954" y="0"/>
                  <a:pt x="1125415" y="0"/>
                </a:cubicBezTo>
                <a:cubicBezTo>
                  <a:pt x="1049159" y="0"/>
                  <a:pt x="973015" y="5861"/>
                  <a:pt x="896815" y="8792"/>
                </a:cubicBezTo>
                <a:cubicBezTo>
                  <a:pt x="843660" y="22080"/>
                  <a:pt x="873115" y="13761"/>
                  <a:pt x="808892" y="35169"/>
                </a:cubicBezTo>
                <a:cubicBezTo>
                  <a:pt x="808887" y="35171"/>
                  <a:pt x="756144" y="52750"/>
                  <a:pt x="756139" y="52754"/>
                </a:cubicBezTo>
                <a:cubicBezTo>
                  <a:pt x="747347" y="58615"/>
                  <a:pt x="737660" y="63318"/>
                  <a:pt x="729762" y="70338"/>
                </a:cubicBezTo>
                <a:cubicBezTo>
                  <a:pt x="711175" y="86860"/>
                  <a:pt x="697700" y="109298"/>
                  <a:pt x="677008" y="123092"/>
                </a:cubicBezTo>
                <a:cubicBezTo>
                  <a:pt x="659423" y="134815"/>
                  <a:pt x="639198" y="143317"/>
                  <a:pt x="624254" y="158261"/>
                </a:cubicBezTo>
                <a:cubicBezTo>
                  <a:pt x="600276" y="182239"/>
                  <a:pt x="592786" y="192216"/>
                  <a:pt x="562708" y="211015"/>
                </a:cubicBezTo>
                <a:cubicBezTo>
                  <a:pt x="551594" y="217962"/>
                  <a:pt x="539262" y="222738"/>
                  <a:pt x="527539" y="228600"/>
                </a:cubicBezTo>
                <a:cubicBezTo>
                  <a:pt x="508955" y="256475"/>
                  <a:pt x="487312" y="292676"/>
                  <a:pt x="457200" y="307731"/>
                </a:cubicBezTo>
                <a:lnTo>
                  <a:pt x="422031" y="325315"/>
                </a:lnTo>
                <a:cubicBezTo>
                  <a:pt x="416169" y="334107"/>
                  <a:pt x="411918" y="344220"/>
                  <a:pt x="404446" y="351692"/>
                </a:cubicBezTo>
                <a:cubicBezTo>
                  <a:pt x="369276" y="386862"/>
                  <a:pt x="383931" y="348761"/>
                  <a:pt x="360485" y="395654"/>
                </a:cubicBezTo>
                <a:cubicBezTo>
                  <a:pt x="356340" y="403944"/>
                  <a:pt x="355837" y="413741"/>
                  <a:pt x="351692" y="422031"/>
                </a:cubicBezTo>
                <a:cubicBezTo>
                  <a:pt x="346966" y="431482"/>
                  <a:pt x="338400" y="438751"/>
                  <a:pt x="334108" y="448407"/>
                </a:cubicBezTo>
                <a:cubicBezTo>
                  <a:pt x="311519" y="499232"/>
                  <a:pt x="317578" y="515588"/>
                  <a:pt x="298939" y="571500"/>
                </a:cubicBezTo>
                <a:lnTo>
                  <a:pt x="290146" y="597877"/>
                </a:lnTo>
                <a:cubicBezTo>
                  <a:pt x="287215" y="630115"/>
                  <a:pt x="285932" y="662546"/>
                  <a:pt x="281354" y="694592"/>
                </a:cubicBezTo>
                <a:cubicBezTo>
                  <a:pt x="280043" y="703767"/>
                  <a:pt x="274380" y="711881"/>
                  <a:pt x="272562" y="720969"/>
                </a:cubicBezTo>
                <a:cubicBezTo>
                  <a:pt x="268498" y="741290"/>
                  <a:pt x="266700" y="762000"/>
                  <a:pt x="263769" y="782515"/>
                </a:cubicBezTo>
                <a:cubicBezTo>
                  <a:pt x="266700" y="893884"/>
                  <a:pt x="267134" y="1005347"/>
                  <a:pt x="272562" y="1116623"/>
                </a:cubicBezTo>
                <a:cubicBezTo>
                  <a:pt x="273014" y="1125880"/>
                  <a:pt x="279536" y="1133912"/>
                  <a:pt x="281354" y="1143000"/>
                </a:cubicBezTo>
                <a:cubicBezTo>
                  <a:pt x="288346" y="1177962"/>
                  <a:pt x="291947" y="1213545"/>
                  <a:pt x="298939" y="1248507"/>
                </a:cubicBezTo>
                <a:cubicBezTo>
                  <a:pt x="301870" y="1263161"/>
                  <a:pt x="305274" y="1277728"/>
                  <a:pt x="307731" y="1292469"/>
                </a:cubicBezTo>
                <a:cubicBezTo>
                  <a:pt x="311138" y="1312911"/>
                  <a:pt x="312459" y="1333694"/>
                  <a:pt x="316523" y="1354015"/>
                </a:cubicBezTo>
                <a:cubicBezTo>
                  <a:pt x="320836" y="1375579"/>
                  <a:pt x="333366" y="1396494"/>
                  <a:pt x="342900" y="1415561"/>
                </a:cubicBezTo>
                <a:cubicBezTo>
                  <a:pt x="345831" y="1430215"/>
                  <a:pt x="347760" y="1445105"/>
                  <a:pt x="351692" y="1459523"/>
                </a:cubicBezTo>
                <a:cubicBezTo>
                  <a:pt x="356569" y="1477406"/>
                  <a:pt x="364782" y="1494295"/>
                  <a:pt x="369277" y="1512277"/>
                </a:cubicBezTo>
                <a:cubicBezTo>
                  <a:pt x="396762" y="1622220"/>
                  <a:pt x="361634" y="1485529"/>
                  <a:pt x="386862" y="1573823"/>
                </a:cubicBezTo>
                <a:cubicBezTo>
                  <a:pt x="413446" y="1666865"/>
                  <a:pt x="371436" y="1536338"/>
                  <a:pt x="413239" y="1661746"/>
                </a:cubicBezTo>
                <a:cubicBezTo>
                  <a:pt x="416170" y="1670538"/>
                  <a:pt x="420213" y="1679035"/>
                  <a:pt x="422031" y="1688123"/>
                </a:cubicBezTo>
                <a:lnTo>
                  <a:pt x="439615" y="1776046"/>
                </a:lnTo>
                <a:cubicBezTo>
                  <a:pt x="442546" y="1808284"/>
                  <a:pt x="444130" y="1840674"/>
                  <a:pt x="448408" y="1872761"/>
                </a:cubicBezTo>
                <a:cubicBezTo>
                  <a:pt x="450005" y="1884739"/>
                  <a:pt x="457200" y="1895847"/>
                  <a:pt x="457200" y="1907931"/>
                </a:cubicBezTo>
                <a:cubicBezTo>
                  <a:pt x="457200" y="2016409"/>
                  <a:pt x="453825" y="2124903"/>
                  <a:pt x="448408" y="2233246"/>
                </a:cubicBezTo>
                <a:cubicBezTo>
                  <a:pt x="447945" y="2242502"/>
                  <a:pt x="441863" y="2250632"/>
                  <a:pt x="439615" y="2259623"/>
                </a:cubicBezTo>
                <a:cubicBezTo>
                  <a:pt x="435990" y="2274121"/>
                  <a:pt x="437007" y="2289980"/>
                  <a:pt x="430823" y="2303584"/>
                </a:cubicBezTo>
                <a:cubicBezTo>
                  <a:pt x="422078" y="2322824"/>
                  <a:pt x="395654" y="2356338"/>
                  <a:pt x="395654" y="2356338"/>
                </a:cubicBezTo>
                <a:cubicBezTo>
                  <a:pt x="387506" y="2380782"/>
                  <a:pt x="387458" y="2388638"/>
                  <a:pt x="369277" y="2409092"/>
                </a:cubicBezTo>
                <a:cubicBezTo>
                  <a:pt x="352755" y="2427679"/>
                  <a:pt x="337215" y="2448051"/>
                  <a:pt x="316523" y="2461846"/>
                </a:cubicBezTo>
                <a:cubicBezTo>
                  <a:pt x="290032" y="2479507"/>
                  <a:pt x="286213" y="2483629"/>
                  <a:pt x="254977" y="2497015"/>
                </a:cubicBezTo>
                <a:cubicBezTo>
                  <a:pt x="232002" y="2506861"/>
                  <a:pt x="218209" y="2507167"/>
                  <a:pt x="193431" y="2514600"/>
                </a:cubicBezTo>
                <a:cubicBezTo>
                  <a:pt x="175677" y="2519926"/>
                  <a:pt x="158262" y="2526322"/>
                  <a:pt x="140677" y="2532184"/>
                </a:cubicBezTo>
                <a:cubicBezTo>
                  <a:pt x="131885" y="2535115"/>
                  <a:pt x="123291" y="2538729"/>
                  <a:pt x="114300" y="2540977"/>
                </a:cubicBezTo>
                <a:cubicBezTo>
                  <a:pt x="90854" y="2546838"/>
                  <a:pt x="66889" y="2550918"/>
                  <a:pt x="43962" y="2558561"/>
                </a:cubicBezTo>
                <a:cubicBezTo>
                  <a:pt x="12024" y="2569208"/>
                  <a:pt x="26853" y="2567354"/>
                  <a:pt x="0" y="2567354"/>
                </a:cubicBezTo>
              </a:path>
            </a:pathLst>
          </a:custGeom>
          <a:noFill/>
          <a:ln w="104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600200" y="2286000"/>
            <a:ext cx="5880240" cy="3789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8" name="Picture 17" descr="C:\Users\larry.moore\AppData\Local\Microsoft\Windows\Temporary Internet Files\Content.IE5\UNADUB9E\MC900441735[1].png"/>
          <p:cNvPicPr/>
          <p:nvPr/>
        </p:nvPicPr>
        <p:blipFill>
          <a:blip r:embed="rId5"/>
          <a:stretch/>
        </p:blipFill>
        <p:spPr>
          <a:xfrm rot="960000">
            <a:off x="2308320" y="1161720"/>
            <a:ext cx="871560" cy="129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C:\Users\larry.moore\AppData\Local\Microsoft\Windows\Temporary Internet Files\Content.IE5\UNADUB9E\MC900441735[1].png"/>
          <p:cNvPicPr/>
          <p:nvPr/>
        </p:nvPicPr>
        <p:blipFill>
          <a:blip r:embed="rId6"/>
          <a:stretch/>
        </p:blipFill>
        <p:spPr>
          <a:xfrm>
            <a:off x="6095880" y="1006560"/>
            <a:ext cx="1017720" cy="1261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C:\Users\larry.moore\AppData\Local\Microsoft\Windows\Temporary Internet Files\Content.IE5\UNADUB9E\MC900441735[1].png"/>
          <p:cNvPicPr/>
          <p:nvPr/>
        </p:nvPicPr>
        <p:blipFill>
          <a:blip r:embed="rId7"/>
          <a:stretch/>
        </p:blipFill>
        <p:spPr>
          <a:xfrm rot="1395600">
            <a:off x="7300800" y="1309680"/>
            <a:ext cx="986040" cy="1262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C:\Users\larry.moore\AppData\Local\Microsoft\Windows\Temporary Internet Files\Content.IE5\UNADUB9E\MC900441735[1].png"/>
          <p:cNvPicPr/>
          <p:nvPr/>
        </p:nvPicPr>
        <p:blipFill>
          <a:blip r:embed="rId8"/>
          <a:stretch/>
        </p:blipFill>
        <p:spPr>
          <a:xfrm rot="15598800">
            <a:off x="921240" y="1265400"/>
            <a:ext cx="987480" cy="1262160"/>
          </a:xfrm>
          <a:prstGeom prst="rect">
            <a:avLst/>
          </a:prstGeom>
          <a:ln w="0">
            <a:noFill/>
          </a:ln>
        </p:spPr>
      </p:pic>
      <p:sp>
        <p:nvSpPr>
          <p:cNvPr id="182" name="Straight Connector 1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ips for Maximizing Learning with PBS Learning Media Featur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80880" y="1828440"/>
            <a:ext cx="8382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 on Closed Cap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by interactives to engage students in multiple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by Lesson Plans or Self Paced Lessons  to find a variety of suggested multimedia with connected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folders to allowing sharing of resources with students and colleag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152280" y="-7632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gency FB"/>
              </a:rPr>
              <a:t>Collaboration using PBS Learning Media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gency FB"/>
              </a:rPr>
              <a:t>My Favorites Folders 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-34920" y="1219320"/>
            <a:ext cx="9191520" cy="56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036800" y="2914560"/>
            <a:ext cx="6846840" cy="790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1025640" y="2076480"/>
            <a:ext cx="6887880" cy="704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3"/>
          <a:stretch/>
        </p:blipFill>
        <p:spPr>
          <a:xfrm>
            <a:off x="1001880" y="4819680"/>
            <a:ext cx="6885000" cy="790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4"/>
          <a:stretch/>
        </p:blipFill>
        <p:spPr>
          <a:xfrm>
            <a:off x="1014480" y="3905280"/>
            <a:ext cx="6865920" cy="7621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"/>
          <p:cNvSpPr/>
          <p:nvPr/>
        </p:nvSpPr>
        <p:spPr>
          <a:xfrm>
            <a:off x="939960" y="-76320"/>
            <a:ext cx="7075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ency FB"/>
              </a:rPr>
              <a:t>PBS Learning Media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gency FB"/>
              </a:rPr>
              <a:t>Professional Development 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21" name="Picture 10" descr=""/>
          <p:cNvPicPr/>
          <p:nvPr/>
        </p:nvPicPr>
        <p:blipFill>
          <a:blip r:embed="rId5"/>
          <a:stretch/>
        </p:blipFill>
        <p:spPr>
          <a:xfrm>
            <a:off x="1031760" y="5810400"/>
            <a:ext cx="6892920" cy="74268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2"/>
          <p:cNvGrpSpPr/>
          <p:nvPr/>
        </p:nvGrpSpPr>
        <p:grpSpPr>
          <a:xfrm>
            <a:off x="1001880" y="1095480"/>
            <a:ext cx="6832440" cy="885600"/>
            <a:chOff x="1001880" y="1095480"/>
            <a:chExt cx="6832440" cy="885600"/>
          </a:xfrm>
        </p:grpSpPr>
        <p:pic>
          <p:nvPicPr>
            <p:cNvPr id="223" name="Picture 9" descr=""/>
            <p:cNvPicPr/>
            <p:nvPr/>
          </p:nvPicPr>
          <p:blipFill>
            <a:blip r:embed="rId6"/>
            <a:stretch/>
          </p:blipFill>
          <p:spPr>
            <a:xfrm>
              <a:off x="1001880" y="1095480"/>
              <a:ext cx="683244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1"/>
            <p:cNvSpPr/>
            <p:nvPr/>
          </p:nvSpPr>
          <p:spPr>
            <a:xfrm>
              <a:off x="2513160" y="1353960"/>
              <a:ext cx="419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99"/>
                  </a:solidFill>
                  <a:latin typeface="Arial Black"/>
                </a:rPr>
                <a:t>Promoting Positive Behavior in Schools </a:t>
              </a:r>
              <a:endParaRPr b="0" lang="en-US" sz="16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Discovery Education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8842320" cy="563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scovery Education Student Cent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Calibri"/>
              </a:rPr>
              <a:t>Tips for Using Maximizing Learning with Discovery Features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951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to Download Closed Captioning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ssignment builder to orchestrate lessons with multiple forms of eng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hared content to coordinate multiple forms of representation and engagement among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 students to the Student Center for access to learning tools such as Board Buil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4"/>
          <p:cNvSpPr/>
          <p:nvPr/>
        </p:nvSpPr>
        <p:spPr>
          <a:xfrm>
            <a:off x="76320" y="0"/>
            <a:ext cx="906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gency FB"/>
              </a:rPr>
              <a:t>Lets take a Peek at how KET  Resources Can Catalyze Project Based Learning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4" name="Action Button: Custom 6">
            <a:hlinkClick r:id="rId1" action="ppaction://hlinksldjump"/>
          </p:cNvPr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5" name="Picture 15" descr=""/>
          <p:cNvPicPr/>
          <p:nvPr/>
        </p:nvPicPr>
        <p:blipFill>
          <a:blip r:embed="rId2"/>
          <a:stretch/>
        </p:blipFill>
        <p:spPr>
          <a:xfrm>
            <a:off x="6400800" y="708120"/>
            <a:ext cx="2743200" cy="6149880"/>
          </a:xfrm>
          <a:prstGeom prst="rect">
            <a:avLst/>
          </a:prstGeom>
          <a:ln w="0">
            <a:noFill/>
          </a:ln>
        </p:spPr>
      </p:pic>
      <p:sp>
        <p:nvSpPr>
          <p:cNvPr id="186" name="Action Button: Custom 2">
            <a:hlinkClick r:id="rId3"/>
          </p:cNvPr>
          <p:cNvSpPr/>
          <p:nvPr/>
        </p:nvSpPr>
        <p:spPr>
          <a:xfrm>
            <a:off x="76320" y="3124080"/>
            <a:ext cx="5181480" cy="762120"/>
          </a:xfrm>
          <a:custGeom>
            <a:avLst/>
            <a:gdLst>
              <a:gd name="textAreaLeft" fmla="*/ 49320 w 5181480"/>
              <a:gd name="textAreaRight" fmla="*/ 5132160 w 5181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46794" h="21600">
                <a:moveTo>
                  <a:pt x="0" y="0"/>
                </a:moveTo>
                <a:lnTo>
                  <a:pt x="146794" y="0"/>
                </a:lnTo>
                <a:lnTo>
                  <a:pt x="146794" y="21600"/>
                </a:lnTo>
                <a:lnTo>
                  <a:pt x="0" y="21600"/>
                </a:lnTo>
                <a:close/>
              </a:path>
              <a:path fill="lightenLess" w="146794" h="21600">
                <a:moveTo>
                  <a:pt x="0" y="0"/>
                </a:moveTo>
                <a:lnTo>
                  <a:pt x="146794" y="0"/>
                </a:lnTo>
                <a:lnTo>
                  <a:pt x="145394" y="1400"/>
                </a:lnTo>
                <a:lnTo>
                  <a:pt x="1400" y="1400"/>
                </a:lnTo>
                <a:close/>
              </a:path>
              <a:path fill="darken" w="146794" h="21600">
                <a:moveTo>
                  <a:pt x="146794" y="0"/>
                </a:moveTo>
                <a:lnTo>
                  <a:pt x="146794" y="21600"/>
                </a:lnTo>
                <a:lnTo>
                  <a:pt x="145394" y="20200"/>
                </a:lnTo>
                <a:lnTo>
                  <a:pt x="145394" y="1400"/>
                </a:lnTo>
                <a:close/>
              </a:path>
              <a:path fill="darkenLess" w="146794" h="21600">
                <a:moveTo>
                  <a:pt x="146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394" y="20200"/>
                </a:lnTo>
                <a:close/>
              </a:path>
              <a:path fill="lighten" w="146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236160" y="1724040"/>
            <a:ext cx="5534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esenter today is: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ry Moore, KET Education Consultan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th Central Region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moore@ket.org / 1-800-432-0951 Ext. 7264  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217440" y="3782880"/>
            <a:ext cx="61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thing to Po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600" y="1722600"/>
            <a:ext cx="86868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ormation that is not attended to, that does not engage students’ cognition, is in fact inaccessible. It is inaccessible both in the moment – relevant information goes unnoticed and unprocessed – and in the future: relevant information is unlikely to be remember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AST (2008). Universal Design for Learning Guidelines Version 1.0. Wakefield, MA: Auth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Project/Challenge Based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6320" y="96048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ject Based Learning revolves around these concep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ntended to teach significant con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organized around an open-ended driving question or challe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a need to know essential content and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inquiry to learn and /or  create something ne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critical thinking, problem solving, collaboration, and various forms of communication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ntury skil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some degree of student voice and cho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es feedback/reflection resulting in re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olves a public audience/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-313560" y="6095880"/>
            <a:ext cx="84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Adapted from 2013 Buck Institute for Education website: http://www.bie.org/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4" name="Action Button: Custom 3"/>
          <p:cNvSpPr/>
          <p:nvPr/>
        </p:nvSpPr>
        <p:spPr>
          <a:xfrm>
            <a:off x="304920" y="6095880"/>
            <a:ext cx="7315200" cy="533520"/>
          </a:xfrm>
          <a:custGeom>
            <a:avLst/>
            <a:gdLst>
              <a:gd name="textAreaLeft" fmla="*/ 34560 w 7315200"/>
              <a:gd name="textAreaRight" fmla="*/ 7280640 w 7315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95977" h="21600">
                <a:moveTo>
                  <a:pt x="0" y="0"/>
                </a:moveTo>
                <a:lnTo>
                  <a:pt x="295977" y="0"/>
                </a:lnTo>
                <a:lnTo>
                  <a:pt x="295977" y="21600"/>
                </a:lnTo>
                <a:lnTo>
                  <a:pt x="0" y="21600"/>
                </a:lnTo>
                <a:close/>
              </a:path>
              <a:path fill="lightenLess" w="295977" h="21600">
                <a:moveTo>
                  <a:pt x="0" y="0"/>
                </a:moveTo>
                <a:lnTo>
                  <a:pt x="295977" y="0"/>
                </a:lnTo>
                <a:lnTo>
                  <a:pt x="294577" y="1400"/>
                </a:lnTo>
                <a:lnTo>
                  <a:pt x="1400" y="1400"/>
                </a:lnTo>
                <a:close/>
              </a:path>
              <a:path fill="darken" w="295977" h="21600">
                <a:moveTo>
                  <a:pt x="295977" y="0"/>
                </a:moveTo>
                <a:lnTo>
                  <a:pt x="295977" y="21600"/>
                </a:lnTo>
                <a:lnTo>
                  <a:pt x="294577" y="20200"/>
                </a:lnTo>
                <a:lnTo>
                  <a:pt x="294577" y="1400"/>
                </a:lnTo>
                <a:close/>
              </a:path>
              <a:path fill="darkenLess" w="295977" h="21600">
                <a:moveTo>
                  <a:pt x="29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77" y="20200"/>
                </a:lnTo>
                <a:close/>
              </a:path>
              <a:path fill="lighten" w="29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Can KET Resources Help Introduce Project/ Challenge Based Learning to Your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ional Development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tures that enhance collaboration between teachers and colleagues and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world examples/applications of project based philoso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of research content for teachers/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tures that allow for teacher feedback and public report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and Career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98" name="Action Button: Custom 8"/>
          <p:cNvSpPr/>
          <p:nvPr/>
        </p:nvSpPr>
        <p:spPr>
          <a:xfrm>
            <a:off x="1600200" y="6095880"/>
            <a:ext cx="6553080" cy="685800"/>
          </a:xfrm>
          <a:custGeom>
            <a:avLst/>
            <a:gdLst>
              <a:gd name="textAreaLeft" fmla="*/ 44280 w 6553080"/>
              <a:gd name="textAreaRight" fmla="*/ 6508800 w 6553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06299" h="21600">
                <a:moveTo>
                  <a:pt x="0" y="0"/>
                </a:moveTo>
                <a:lnTo>
                  <a:pt x="206299" y="0"/>
                </a:lnTo>
                <a:lnTo>
                  <a:pt x="206299" y="21600"/>
                </a:lnTo>
                <a:lnTo>
                  <a:pt x="0" y="21600"/>
                </a:lnTo>
                <a:close/>
              </a:path>
              <a:path fill="lightenLess" w="206299" h="21600">
                <a:moveTo>
                  <a:pt x="0" y="0"/>
                </a:moveTo>
                <a:lnTo>
                  <a:pt x="206299" y="0"/>
                </a:lnTo>
                <a:lnTo>
                  <a:pt x="204899" y="1400"/>
                </a:lnTo>
                <a:lnTo>
                  <a:pt x="1400" y="1400"/>
                </a:lnTo>
                <a:close/>
              </a:path>
              <a:path fill="darken" w="206299" h="21600">
                <a:moveTo>
                  <a:pt x="206299" y="0"/>
                </a:moveTo>
                <a:lnTo>
                  <a:pt x="206299" y="21600"/>
                </a:lnTo>
                <a:lnTo>
                  <a:pt x="204899" y="20200"/>
                </a:lnTo>
                <a:lnTo>
                  <a:pt x="204899" y="1400"/>
                </a:lnTo>
                <a:close/>
              </a:path>
              <a:path fill="darkenLess" w="206299" h="21600">
                <a:moveTo>
                  <a:pt x="206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899" y="20200"/>
                </a:lnTo>
                <a:close/>
              </a:path>
              <a:path fill="lighten" w="206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600200" y="6095520"/>
            <a:ext cx="64008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KET.ORG/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2666880" y="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gency FB"/>
                <a:ea typeface="Arial"/>
              </a:rPr>
              <a:t>Let’s Explore!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ction Button: Custom 6"/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4" name="Action Button: Custom 7"/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3"/>
          <p:cNvSpPr/>
          <p:nvPr/>
        </p:nvSpPr>
        <p:spPr>
          <a:xfrm>
            <a:off x="76320" y="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gency FB"/>
              </a:rPr>
              <a:t>The New KET EncycloMedia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0" y="674640"/>
            <a:ext cx="9177480" cy="46864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"/>
          <p:cNvSpPr/>
          <p:nvPr/>
        </p:nvSpPr>
        <p:spPr>
          <a:xfrm>
            <a:off x="152280" y="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gency FB"/>
              </a:rPr>
              <a:t>Teacher’s Domain Evolves into PBS Learning Media 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-17640" y="5029200"/>
            <a:ext cx="9161640" cy="2409120"/>
          </a:xfrm>
          <a:prstGeom prst="rect">
            <a:avLst/>
          </a:prstGeom>
          <a:solidFill>
            <a:srgbClr val="499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S Learning combines the resources from Teacher’s Domain with new KET and PBS content and then adds an improved search engine and overall functionality</a:t>
            </a:r>
            <a:br>
              <a:rPr sz="18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Baskerville Old Face"/>
            </a:endParaRPr>
          </a:p>
          <a:p>
            <a:pPr marL="285840" indent="-2858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,000 resources from KET and PBS affiliates with 200 -500 resources being added each mon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285840" indent="-2858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includes video, images, interactives, lesson plans, and self paced lessons and professional develop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152280" y="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gency FB"/>
              </a:rPr>
              <a:t>A Great Example of Student Engagement: 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gency FB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Agency FB"/>
              </a:rPr>
              <a:t>Inspiring Middle School Literacy”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397400"/>
          </a:xfrm>
          <a:prstGeom prst="rect">
            <a:avLst/>
          </a:prstGeom>
          <a:ln w="0">
            <a:noFill/>
          </a:ln>
        </p:spPr>
      </p:pic>
    </p:spTree>
  </p:cSld>
  <p:transition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arry Moore</cp:lastModifiedBy>
  <dcterms:modified xsi:type="dcterms:W3CDTF">2013-08-08T13:52:17Z</dcterms:modified>
  <cp:revision>726</cp:revision>
  <dc:subject/>
  <dc:title>Slide 1</dc:title>
</cp:coreProperties>
</file>